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5"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6"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07"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1"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12"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13"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5"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16"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17"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9"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20"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21"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3"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24"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6"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27"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28"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29"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31"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32"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33"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34"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35"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36"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8"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9"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0"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38"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0"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2"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43"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7"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48"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49"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1"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52"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53"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5"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56"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57"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9"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60"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2"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63"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64"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65"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3"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4"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5"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6"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7"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7"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68"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69"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70"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71"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72"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6"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8"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0"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81"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5"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86"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87"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9"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90"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91"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3"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94"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95"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7"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98"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0"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01"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02"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03"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5"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06"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07"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08"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09"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10"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4"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6"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8"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19"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3"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24"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25"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7"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28"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29"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1"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32"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33"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5"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36"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8"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39"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40"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41"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43"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44"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45"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46"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47"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48"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2"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4"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6"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57"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1"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62"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63"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5"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66"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67"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9"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70"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71"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3"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74"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6"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77"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78"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79"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81"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82"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83"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84"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85"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86"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0"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2"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6"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4"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95"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9"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00"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01"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3"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04"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05"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7"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08"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09"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1"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12"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4"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15"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16"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17"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9"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20"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21"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22"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23"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24"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1"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2"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4"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5"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6"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8"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9"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60"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2"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63"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5"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66"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67"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68"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0"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71"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72"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73"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74"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75"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8"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0"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2"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83"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7"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88"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89"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1"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92"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93"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5"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96"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97"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9"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00"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2"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03"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04"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05"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7"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08"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09"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10"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11"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12"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5"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7"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8"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9"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20"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4"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25"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26"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8"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29"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30"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2"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33"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34"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6"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37"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9"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40"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41"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42"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4"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45"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46"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47"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48"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49"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2"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4"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6"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57"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1"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62"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63"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5"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66"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67"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9"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70"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71"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3"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74"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6"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77"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78"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79"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81"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82"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83"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84"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85"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86"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89"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1"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3"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94"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8"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99"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00"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2"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03"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04"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6"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07"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08"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3"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4"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0"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11"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3"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14"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15"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16"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8"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19"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20"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21"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22"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23"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7"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9"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1"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32"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6"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37"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38"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7"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8"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0"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41"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42"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4"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45"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46"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8"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49"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1"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52"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53"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54"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6"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57"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58"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59"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60"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61"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5"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7"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9"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70"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1"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2"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4"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75"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76"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8"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79"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80"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2"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83"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84"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6"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87"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9"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90"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91"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92"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94"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95"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96"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97"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98"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99"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2"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4"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1" name="PlaceHolder 2"/>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74"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12"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06020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451520" indent="-4345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8424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50"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711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55520" indent="-31608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399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88"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1564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0264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88928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25"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63"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5" name=""/>
          <p:cNvGraphicFramePr/>
          <p:nvPr/>
        </p:nvGraphicFramePr>
        <p:xfrm>
          <a:off x="239760" y="203040"/>
          <a:ext cx="12344400" cy="9194760"/>
        </p:xfrm>
        <a:graphic>
          <a:graphicData uri="http://schemas.openxmlformats.org/drawingml/2006/table">
            <a:tbl>
              <a:tblPr/>
              <a:tblGrid>
                <a:gridCol w="4114800"/>
                <a:gridCol w="4114800"/>
                <a:gridCol w="4114800"/>
              </a:tblGrid>
              <a:tr h="1434960">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blipFill rotWithShape="0">
                      <a:blip r:embed="rId1"/>
                      <a:stretch/>
                    </a:blipFill>
                  </a:tcPr>
                </a:tc>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blipFill rotWithShape="0">
                      <a:blip r:embed="rId2"/>
                      <a:stretch/>
                    </a:blipFill>
                  </a:tcPr>
                </a:tc>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blipFill rotWithShape="0">
                      <a:blip r:embed="rId3"/>
                      <a:stretch/>
                    </a:blipFill>
                  </a:tcPr>
                </a:tc>
              </a:tr>
              <a:tr h="1778040">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blipFill rotWithShape="0">
                      <a:blip r:embed="rId4"/>
                      <a:stretch/>
                    </a:blipFill>
                  </a:tcPr>
                </a:tc>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blipFill rotWithShape="0">
                      <a:blip r:embed="rId5"/>
                      <a:stretch/>
                    </a:blipFill>
                  </a:tcPr>
                </a:tc>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blipFill rotWithShape="0">
                      <a:blip r:embed="rId6"/>
                      <a:stretch/>
                    </a:blipFill>
                  </a:tcPr>
                </a:tc>
              </a:tr>
              <a:tr h="546120">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r>
              <a:tr h="2603520">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r>
              <a:tr h="2832120">
                <a:tc>
                  <a:txBody>
                    <a:bodyPr lIns="50760" rIns="50760" tIns="50760" bIns="507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6" name=""/>
          <p:cNvGraphicFramePr/>
          <p:nvPr/>
        </p:nvGraphicFramePr>
        <p:xfrm>
          <a:off x="239760" y="203040"/>
          <a:ext cx="12344400" cy="9194760"/>
        </p:xfrm>
        <a:graphic>
          <a:graphicData uri="http://schemas.openxmlformats.org/drawingml/2006/table">
            <a:tbl>
              <a:tblPr/>
              <a:tblGrid>
                <a:gridCol w="4114800"/>
                <a:gridCol w="4114800"/>
                <a:gridCol w="4114800"/>
              </a:tblGrid>
              <a:tr h="1323000">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blipFill rotWithShape="0">
                      <a:blip r:embed="rId1"/>
                      <a:stretch/>
                    </a:blipFill>
                  </a:tcPr>
                </a:tc>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blipFill rotWithShape="0">
                      <a:blip r:embed="rId2"/>
                      <a:stretch/>
                    </a:blipFill>
                  </a:tcPr>
                </a:tc>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blipFill rotWithShape="0">
                      <a:blip r:embed="rId3"/>
                      <a:stretch/>
                    </a:blipFill>
                  </a:tcPr>
                </a:tc>
              </a:tr>
              <a:tr h="235692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blipFill rotWithShape="0">
                      <a:blip r:embed="rId4"/>
                      <a:stretch/>
                    </a:blipFill>
                  </a:tcPr>
                </a:tc>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blipFill rotWithShape="0">
                      <a:blip r:embed="rId5"/>
                      <a:stretch/>
                    </a:blipFill>
                  </a:tcPr>
                </a:tc>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blipFill rotWithShape="0">
                      <a:blip r:embed="rId6"/>
                      <a:stretch/>
                    </a:blipFill>
                  </a:tcPr>
                </a:tc>
              </a:tr>
              <a:tr h="503640">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David Lloyd George, the Prime Minister of Britain</a:t>
                      </a:r>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Georges Clemenceau, the Prime Minister of France</a:t>
                      </a:r>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Woodrow Wilson, the President of America</a:t>
                      </a:r>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r>
              <a:tr h="2400480">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r>
              <a:tr h="2610720">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7" name=""/>
          <p:cNvGraphicFramePr/>
          <p:nvPr/>
        </p:nvGraphicFramePr>
        <p:xfrm>
          <a:off x="239760" y="203040"/>
          <a:ext cx="12344400" cy="9194760"/>
        </p:xfrm>
        <a:graphic>
          <a:graphicData uri="http://schemas.openxmlformats.org/drawingml/2006/table">
            <a:tbl>
              <a:tblPr/>
              <a:tblGrid>
                <a:gridCol w="4114800"/>
                <a:gridCol w="4114800"/>
                <a:gridCol w="4114800"/>
              </a:tblGrid>
              <a:tr h="1127520">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blipFill rotWithShape="0">
                      <a:blip r:embed="rId1"/>
                      <a:stretch/>
                    </a:blipFill>
                  </a:tcPr>
                </a:tc>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blipFill rotWithShape="0">
                      <a:blip r:embed="rId2"/>
                      <a:stretch/>
                    </a:blipFill>
                  </a:tcPr>
                </a:tc>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blipFill rotWithShape="0">
                      <a:blip r:embed="rId3"/>
                      <a:stretch/>
                    </a:blipFill>
                  </a:tcPr>
                </a:tc>
              </a:tr>
              <a:tr h="235692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blipFill rotWithShape="0">
                      <a:blip r:embed="rId4"/>
                      <a:stretch/>
                    </a:blipFill>
                  </a:tcPr>
                </a:tc>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blipFill rotWithShape="0">
                      <a:blip r:embed="rId5"/>
                      <a:stretch/>
                    </a:blipFill>
                  </a:tcPr>
                </a:tc>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blipFill rotWithShape="0">
                      <a:blip r:embed="rId6"/>
                      <a:stretch/>
                    </a:blipFill>
                  </a:tcPr>
                </a:tc>
              </a:tr>
              <a:tr h="429480">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David Lloyd George, the Prime Minister of Britain</a:t>
                      </a:r>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Georges Clemenceau, the Prime Minister of France</a:t>
                      </a:r>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Woodrow Wilson, the President of America</a:t>
                      </a:r>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r>
              <a:tr h="2477880">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He </a:t>
                      </a:r>
                      <a:r>
                        <a:rPr b="0" lang="en-US" sz="1200" spc="-1" strike="noStrike">
                          <a:solidFill>
                            <a:srgbClr val="000000"/>
                          </a:solidFill>
                          <a:latin typeface="Verdana Italic"/>
                          <a:ea typeface="Verdana Italic"/>
                        </a:rPr>
                        <a:t>said</a:t>
                      </a:r>
                      <a:r>
                        <a:rPr b="0" lang="en-US" sz="1200" spc="-1" strike="noStrike">
                          <a:solidFill>
                            <a:srgbClr val="000000"/>
                          </a:solidFill>
                          <a:latin typeface="Verdana"/>
                          <a:ea typeface="Verdana"/>
                        </a:rPr>
                        <a:t> he would ‘</a:t>
                      </a:r>
                      <a:r>
                        <a:rPr b="0" lang="en-US" sz="1200" spc="-1" strike="noStrike">
                          <a:solidFill>
                            <a:srgbClr val="000000"/>
                          </a:solidFill>
                          <a:latin typeface="Verdana Bold"/>
                          <a:ea typeface="Verdana Bold"/>
                        </a:rPr>
                        <a:t>make Germany pay’</a:t>
                      </a:r>
                      <a:r>
                        <a:rPr b="0" lang="en-US" sz="1200" spc="-1" strike="noStrike">
                          <a:solidFill>
                            <a:srgbClr val="000000"/>
                          </a:solidFill>
                          <a:latin typeface="Verdana"/>
                          <a:ea typeface="Verdana"/>
                        </a:rPr>
                        <a:t> – because he knew that was what the British people wanted to hear.</a:t>
                      </a: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He wanted ‘</a:t>
                      </a:r>
                      <a:r>
                        <a:rPr b="0" lang="en-US" sz="1200" spc="-1" strike="noStrike">
                          <a:solidFill>
                            <a:srgbClr val="000000"/>
                          </a:solidFill>
                          <a:latin typeface="Verdana Bold"/>
                          <a:ea typeface="Verdana Bold"/>
                        </a:rPr>
                        <a:t>justice</a:t>
                      </a:r>
                      <a:r>
                        <a:rPr b="0" lang="en-US" sz="1200" spc="-1" strike="noStrike">
                          <a:solidFill>
                            <a:srgbClr val="000000"/>
                          </a:solidFill>
                          <a:latin typeface="Verdana"/>
                          <a:ea typeface="Verdana"/>
                        </a:rPr>
                        <a:t>’, but he </a:t>
                      </a:r>
                      <a:r>
                        <a:rPr b="0" lang="en-US" sz="1200" spc="-1" strike="noStrike">
                          <a:solidFill>
                            <a:srgbClr val="000000"/>
                          </a:solidFill>
                          <a:latin typeface="Verdana Bold"/>
                          <a:ea typeface="Verdana Bold"/>
                        </a:rPr>
                        <a:t>did not want revenge</a:t>
                      </a:r>
                      <a:r>
                        <a:rPr b="0" lang="en-US" sz="1200" spc="-1" strike="noStrike">
                          <a:solidFill>
                            <a:srgbClr val="000000"/>
                          </a:solidFill>
                          <a:latin typeface="Verdana"/>
                          <a:ea typeface="Verdana"/>
                        </a:rPr>
                        <a:t>. He said that the peace must </a:t>
                      </a:r>
                      <a:r>
                        <a:rPr b="0" lang="en-US" sz="1200" spc="-1" strike="noStrike">
                          <a:solidFill>
                            <a:srgbClr val="000000"/>
                          </a:solidFill>
                          <a:latin typeface="Verdana Bold"/>
                          <a:ea typeface="Verdana Bold"/>
                        </a:rPr>
                        <a:t>not be harsh</a:t>
                      </a:r>
                      <a:r>
                        <a:rPr b="0" lang="en-US" sz="1200" spc="-1" strike="noStrike">
                          <a:solidFill>
                            <a:srgbClr val="000000"/>
                          </a:solidFill>
                          <a:latin typeface="Verdana"/>
                          <a:ea typeface="Verdana"/>
                        </a:rPr>
                        <a:t> – that would just cause another war in a few years time.  He tried to get a compromise between Wilson and Clemenceau.</a:t>
                      </a: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He wanted to </a:t>
                      </a:r>
                      <a:r>
                        <a:rPr b="0" lang="en-US" sz="1200" spc="-1" strike="noStrike">
                          <a:solidFill>
                            <a:srgbClr val="000000"/>
                          </a:solidFill>
                          <a:latin typeface="Verdana Bold"/>
                          <a:ea typeface="Verdana Bold"/>
                        </a:rPr>
                        <a:t>expand</a:t>
                      </a:r>
                      <a:r>
                        <a:rPr b="0" lang="en-US" sz="1200" spc="-1" strike="noStrike">
                          <a:solidFill>
                            <a:srgbClr val="000000"/>
                          </a:solidFill>
                          <a:latin typeface="Verdana"/>
                          <a:ea typeface="Verdana"/>
                        </a:rPr>
                        <a:t> the British Empire, maintain British control of the seas, and increase Britain's trade</a:t>
                      </a:r>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e wanted </a:t>
                      </a:r>
                      <a:r>
                        <a:rPr b="0" lang="en-US" sz="1400" spc="-1" strike="noStrike">
                          <a:solidFill>
                            <a:srgbClr val="000000"/>
                          </a:solidFill>
                          <a:latin typeface="Arial Bold"/>
                          <a:ea typeface="Arial Bold"/>
                        </a:rPr>
                        <a:t>revenge</a:t>
                      </a:r>
                      <a:r>
                        <a:rPr b="0" lang="en-US" sz="1400" spc="-1" strike="noStrike">
                          <a:solidFill>
                            <a:srgbClr val="000000"/>
                          </a:solidFill>
                          <a:latin typeface="Arial"/>
                          <a:ea typeface="Arial"/>
                        </a:rPr>
                        <a:t>, and to </a:t>
                      </a:r>
                      <a:r>
                        <a:rPr b="0" lang="en-US" sz="1400" spc="-1" strike="noStrike">
                          <a:solidFill>
                            <a:srgbClr val="000000"/>
                          </a:solidFill>
                          <a:latin typeface="Arial Bold"/>
                          <a:ea typeface="Arial Bold"/>
                        </a:rPr>
                        <a:t>punish</a:t>
                      </a:r>
                      <a:r>
                        <a:rPr b="0" lang="en-US" sz="1400" spc="-1" strike="noStrike">
                          <a:solidFill>
                            <a:srgbClr val="000000"/>
                          </a:solidFill>
                          <a:latin typeface="Arial"/>
                          <a:ea typeface="Arial"/>
                        </a:rPr>
                        <a:t> the Germans for what they had done.</a:t>
                      </a:r>
                      <a:endParaRPr b="0" lang="en-US" sz="1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e wanted to </a:t>
                      </a:r>
                      <a:r>
                        <a:rPr b="0" lang="en-US" sz="1400" spc="-1" strike="noStrike">
                          <a:solidFill>
                            <a:srgbClr val="000000"/>
                          </a:solidFill>
                          <a:latin typeface="Arial Bold"/>
                          <a:ea typeface="Arial Bold"/>
                        </a:rPr>
                        <a:t>make Germany pay</a:t>
                      </a:r>
                      <a:r>
                        <a:rPr b="0" lang="en-US" sz="1400" spc="-1" strike="noStrike">
                          <a:solidFill>
                            <a:srgbClr val="000000"/>
                          </a:solidFill>
                          <a:latin typeface="Arial"/>
                          <a:ea typeface="Arial"/>
                        </a:rPr>
                        <a:t> for the damage done during the war.</a:t>
                      </a:r>
                      <a:endParaRPr b="0" lang="en-US" sz="1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e also wanted to </a:t>
                      </a:r>
                      <a:r>
                        <a:rPr b="0" lang="en-US" sz="1400" spc="-1" strike="noStrike">
                          <a:solidFill>
                            <a:srgbClr val="000000"/>
                          </a:solidFill>
                          <a:latin typeface="Arial Bold"/>
                          <a:ea typeface="Arial Bold"/>
                        </a:rPr>
                        <a:t>weaken</a:t>
                      </a:r>
                      <a:r>
                        <a:rPr b="0" lang="en-US" sz="1400" spc="-1" strike="noStrike">
                          <a:solidFill>
                            <a:srgbClr val="000000"/>
                          </a:solidFill>
                          <a:latin typeface="Arial"/>
                          <a:ea typeface="Arial"/>
                        </a:rPr>
                        <a:t> Germany, so France would never be invaded again.</a:t>
                      </a:r>
                      <a:endParaRPr b="0" lang="en-US" sz="1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n 1918, Wilson published “Fourteen Points” saying what he wanted.</a:t>
                      </a:r>
                      <a:endParaRPr b="0" lang="en-US" sz="13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He wanted to </a:t>
                      </a:r>
                      <a:r>
                        <a:rPr b="0" lang="en-US" sz="1300" spc="-1" strike="noStrike">
                          <a:solidFill>
                            <a:srgbClr val="000000"/>
                          </a:solidFill>
                          <a:latin typeface="Arial Bold"/>
                          <a:ea typeface="Arial Bold"/>
                        </a:rPr>
                        <a:t>make the world safe</a:t>
                      </a:r>
                      <a:r>
                        <a:rPr b="0" lang="en-US" sz="1300" spc="-1" strike="noStrike">
                          <a:solidFill>
                            <a:srgbClr val="000000"/>
                          </a:solidFill>
                          <a:latin typeface="Arial"/>
                          <a:ea typeface="Arial"/>
                        </a:rPr>
                        <a:t>.  He wanted to </a:t>
                      </a:r>
                      <a:r>
                        <a:rPr b="0" lang="en-US" sz="1300" spc="-1" strike="noStrike">
                          <a:solidFill>
                            <a:srgbClr val="000000"/>
                          </a:solidFill>
                          <a:latin typeface="Arial Bold"/>
                          <a:ea typeface="Arial Bold"/>
                        </a:rPr>
                        <a:t>end war</a:t>
                      </a:r>
                      <a:r>
                        <a:rPr b="0" lang="en-US" sz="1300" spc="-1" strike="noStrike">
                          <a:solidFill>
                            <a:srgbClr val="000000"/>
                          </a:solidFill>
                          <a:latin typeface="Arial"/>
                          <a:ea typeface="Arial"/>
                        </a:rPr>
                        <a:t> by making a</a:t>
                      </a:r>
                      <a:r>
                        <a:rPr b="0" lang="en-US" sz="1300" spc="-1" strike="noStrike">
                          <a:solidFill>
                            <a:srgbClr val="000000"/>
                          </a:solidFill>
                          <a:latin typeface="Arial Bold"/>
                          <a:ea typeface="Arial Bold"/>
                        </a:rPr>
                        <a:t> fair peace</a:t>
                      </a:r>
                      <a:r>
                        <a:rPr b="0" lang="en-US" sz="1300" spc="-1" strike="noStrike">
                          <a:solidFill>
                            <a:srgbClr val="000000"/>
                          </a:solidFill>
                          <a:latin typeface="Arial"/>
                          <a:ea typeface="Arial"/>
                        </a:rPr>
                        <a:t>.</a:t>
                      </a:r>
                      <a:endParaRPr b="0" lang="en-US" sz="13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old"/>
                          <a:ea typeface="Arial Bold"/>
                        </a:rPr>
                        <a:t>He said that he wanted disarmament, and a League of Nations (where countries could talk out their problems, without war).</a:t>
                      </a:r>
                      <a:endParaRPr b="0" lang="en-US" sz="13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old"/>
                          <a:ea typeface="Arial Bold"/>
                        </a:rPr>
                        <a:t>He also promised self-determination for the peoples of Eastern Europe.</a:t>
                      </a:r>
                      <a:endParaRPr b="0" lang="en-US" sz="13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r>
              <a:tr h="2224080">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8" name=""/>
          <p:cNvGraphicFramePr/>
          <p:nvPr/>
        </p:nvGraphicFramePr>
        <p:xfrm>
          <a:off x="239760" y="203040"/>
          <a:ext cx="12344400" cy="9194760"/>
        </p:xfrm>
        <a:graphic>
          <a:graphicData uri="http://schemas.openxmlformats.org/drawingml/2006/table">
            <a:tbl>
              <a:tblPr/>
              <a:tblGrid>
                <a:gridCol w="4114800"/>
                <a:gridCol w="4114800"/>
                <a:gridCol w="4114800"/>
              </a:tblGrid>
              <a:tr h="284400">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blipFill rotWithShape="0">
                      <a:blip r:embed="rId1"/>
                      <a:stretch/>
                    </a:blipFill>
                  </a:tcPr>
                </a:tc>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blipFill rotWithShape="0">
                      <a:blip r:embed="rId2"/>
                      <a:stretch/>
                    </a:blipFill>
                  </a:tcPr>
                </a:tc>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blipFill rotWithShape="0">
                      <a:blip r:embed="rId3"/>
                      <a:stretch/>
                    </a:blipFill>
                  </a:tcPr>
                </a:tc>
              </a:tr>
              <a:tr h="235692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blipFill rotWithShape="0">
                      <a:blip r:embed="rId4"/>
                      <a:stretch/>
                    </a:blipFill>
                  </a:tcPr>
                </a:tc>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blipFill rotWithShape="0">
                      <a:blip r:embed="rId5"/>
                      <a:stretch/>
                    </a:blipFill>
                  </a:tcPr>
                </a:tc>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blipFill rotWithShape="0">
                      <a:blip r:embed="rId6"/>
                      <a:stretch/>
                    </a:blipFill>
                  </a:tcPr>
                </a:tc>
              </a:tr>
              <a:tr h="284400">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David Lloyd George, the Prime Minister of Britain</a:t>
                      </a:r>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Georges Clemenceau, the Prime Minister of France</a:t>
                      </a:r>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Woodrow Wilson, the President of America</a:t>
                      </a:r>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r>
              <a:tr h="2477880">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He </a:t>
                      </a:r>
                      <a:r>
                        <a:rPr b="0" lang="en-US" sz="1200" spc="-1" strike="noStrike">
                          <a:solidFill>
                            <a:srgbClr val="000000"/>
                          </a:solidFill>
                          <a:latin typeface="Verdana Italic"/>
                          <a:ea typeface="Verdana Italic"/>
                        </a:rPr>
                        <a:t>said</a:t>
                      </a:r>
                      <a:r>
                        <a:rPr b="0" lang="en-US" sz="1200" spc="-1" strike="noStrike">
                          <a:solidFill>
                            <a:srgbClr val="000000"/>
                          </a:solidFill>
                          <a:latin typeface="Verdana"/>
                          <a:ea typeface="Verdana"/>
                        </a:rPr>
                        <a:t> he would ‘</a:t>
                      </a:r>
                      <a:r>
                        <a:rPr b="0" lang="en-US" sz="1200" spc="-1" strike="noStrike">
                          <a:solidFill>
                            <a:srgbClr val="000000"/>
                          </a:solidFill>
                          <a:latin typeface="Verdana Bold"/>
                          <a:ea typeface="Verdana Bold"/>
                        </a:rPr>
                        <a:t>make Germany pay’</a:t>
                      </a:r>
                      <a:r>
                        <a:rPr b="0" lang="en-US" sz="1200" spc="-1" strike="noStrike">
                          <a:solidFill>
                            <a:srgbClr val="000000"/>
                          </a:solidFill>
                          <a:latin typeface="Verdana"/>
                          <a:ea typeface="Verdana"/>
                        </a:rPr>
                        <a:t> – because he knew that was what the British people wanted to hear.</a:t>
                      </a: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He wanted ‘</a:t>
                      </a:r>
                      <a:r>
                        <a:rPr b="0" lang="en-US" sz="1200" spc="-1" strike="noStrike">
                          <a:solidFill>
                            <a:srgbClr val="000000"/>
                          </a:solidFill>
                          <a:latin typeface="Verdana Bold"/>
                          <a:ea typeface="Verdana Bold"/>
                        </a:rPr>
                        <a:t>justice</a:t>
                      </a:r>
                      <a:r>
                        <a:rPr b="0" lang="en-US" sz="1200" spc="-1" strike="noStrike">
                          <a:solidFill>
                            <a:srgbClr val="000000"/>
                          </a:solidFill>
                          <a:latin typeface="Verdana"/>
                          <a:ea typeface="Verdana"/>
                        </a:rPr>
                        <a:t>’, but he </a:t>
                      </a:r>
                      <a:r>
                        <a:rPr b="0" lang="en-US" sz="1200" spc="-1" strike="noStrike">
                          <a:solidFill>
                            <a:srgbClr val="000000"/>
                          </a:solidFill>
                          <a:latin typeface="Verdana Bold"/>
                          <a:ea typeface="Verdana Bold"/>
                        </a:rPr>
                        <a:t>did not want revenge</a:t>
                      </a:r>
                      <a:r>
                        <a:rPr b="0" lang="en-US" sz="1200" spc="-1" strike="noStrike">
                          <a:solidFill>
                            <a:srgbClr val="000000"/>
                          </a:solidFill>
                          <a:latin typeface="Verdana"/>
                          <a:ea typeface="Verdana"/>
                        </a:rPr>
                        <a:t>. He said that the peace must </a:t>
                      </a:r>
                      <a:r>
                        <a:rPr b="0" lang="en-US" sz="1200" spc="-1" strike="noStrike">
                          <a:solidFill>
                            <a:srgbClr val="000000"/>
                          </a:solidFill>
                          <a:latin typeface="Verdana Bold"/>
                          <a:ea typeface="Verdana Bold"/>
                        </a:rPr>
                        <a:t>not be harsh</a:t>
                      </a:r>
                      <a:r>
                        <a:rPr b="0" lang="en-US" sz="1200" spc="-1" strike="noStrike">
                          <a:solidFill>
                            <a:srgbClr val="000000"/>
                          </a:solidFill>
                          <a:latin typeface="Verdana"/>
                          <a:ea typeface="Verdana"/>
                        </a:rPr>
                        <a:t> – that would just cause another war in a few years time.  He tried to get a compromise between Wilson and Clemenceau.</a:t>
                      </a: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He ALSO wanted to expand the British Empire, maintain British control of the seas, and increase Britain's trade</a:t>
                      </a:r>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e wanted </a:t>
                      </a:r>
                      <a:r>
                        <a:rPr b="0" lang="en-US" sz="1400" spc="-1" strike="noStrike">
                          <a:solidFill>
                            <a:srgbClr val="000000"/>
                          </a:solidFill>
                          <a:latin typeface="Arial Bold"/>
                          <a:ea typeface="Arial Bold"/>
                        </a:rPr>
                        <a:t>revenge</a:t>
                      </a:r>
                      <a:r>
                        <a:rPr b="0" lang="en-US" sz="1400" spc="-1" strike="noStrike">
                          <a:solidFill>
                            <a:srgbClr val="000000"/>
                          </a:solidFill>
                          <a:latin typeface="Arial"/>
                          <a:ea typeface="Arial"/>
                        </a:rPr>
                        <a:t>, and to </a:t>
                      </a:r>
                      <a:r>
                        <a:rPr b="0" lang="en-US" sz="1400" spc="-1" strike="noStrike">
                          <a:solidFill>
                            <a:srgbClr val="000000"/>
                          </a:solidFill>
                          <a:latin typeface="Arial Bold"/>
                          <a:ea typeface="Arial Bold"/>
                        </a:rPr>
                        <a:t>punish</a:t>
                      </a:r>
                      <a:r>
                        <a:rPr b="0" lang="en-US" sz="1400" spc="-1" strike="noStrike">
                          <a:solidFill>
                            <a:srgbClr val="000000"/>
                          </a:solidFill>
                          <a:latin typeface="Arial"/>
                          <a:ea typeface="Arial"/>
                        </a:rPr>
                        <a:t> the Germans for what they had done.</a:t>
                      </a:r>
                      <a:endParaRPr b="0" lang="en-US" sz="1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e wanted to </a:t>
                      </a:r>
                      <a:r>
                        <a:rPr b="0" lang="en-US" sz="1400" spc="-1" strike="noStrike">
                          <a:solidFill>
                            <a:srgbClr val="000000"/>
                          </a:solidFill>
                          <a:latin typeface="Arial Bold"/>
                          <a:ea typeface="Arial Bold"/>
                        </a:rPr>
                        <a:t>make Germany pay</a:t>
                      </a:r>
                      <a:r>
                        <a:rPr b="0" lang="en-US" sz="1400" spc="-1" strike="noStrike">
                          <a:solidFill>
                            <a:srgbClr val="000000"/>
                          </a:solidFill>
                          <a:latin typeface="Arial"/>
                          <a:ea typeface="Arial"/>
                        </a:rPr>
                        <a:t> for the damage done during the war.</a:t>
                      </a:r>
                      <a:endParaRPr b="0" lang="en-US" sz="1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e also wanted to </a:t>
                      </a:r>
                      <a:r>
                        <a:rPr b="0" lang="en-US" sz="1400" spc="-1" strike="noStrike">
                          <a:solidFill>
                            <a:srgbClr val="000000"/>
                          </a:solidFill>
                          <a:latin typeface="Arial Bold"/>
                          <a:ea typeface="Arial Bold"/>
                        </a:rPr>
                        <a:t>weaken</a:t>
                      </a:r>
                      <a:r>
                        <a:rPr b="0" lang="en-US" sz="1400" spc="-1" strike="noStrike">
                          <a:solidFill>
                            <a:srgbClr val="000000"/>
                          </a:solidFill>
                          <a:latin typeface="Arial"/>
                          <a:ea typeface="Arial"/>
                        </a:rPr>
                        <a:t> Germany, so France would never be invaded again.</a:t>
                      </a:r>
                      <a:endParaRPr b="0" lang="en-US" sz="1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n 1918, Wilson published “Fourteen Points” saying what he wanted.</a:t>
                      </a:r>
                      <a:endParaRPr b="0" lang="en-US" sz="13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He wanted to </a:t>
                      </a:r>
                      <a:r>
                        <a:rPr b="0" lang="en-US" sz="1300" spc="-1" strike="noStrike">
                          <a:solidFill>
                            <a:srgbClr val="000000"/>
                          </a:solidFill>
                          <a:latin typeface="Arial Bold"/>
                          <a:ea typeface="Arial Bold"/>
                        </a:rPr>
                        <a:t>make the world safe</a:t>
                      </a:r>
                      <a:r>
                        <a:rPr b="0" lang="en-US" sz="1300" spc="-1" strike="noStrike">
                          <a:solidFill>
                            <a:srgbClr val="000000"/>
                          </a:solidFill>
                          <a:latin typeface="Arial"/>
                          <a:ea typeface="Arial"/>
                        </a:rPr>
                        <a:t>.  He wanted to </a:t>
                      </a:r>
                      <a:r>
                        <a:rPr b="0" lang="en-US" sz="1300" spc="-1" strike="noStrike">
                          <a:solidFill>
                            <a:srgbClr val="000000"/>
                          </a:solidFill>
                          <a:latin typeface="Arial Bold"/>
                          <a:ea typeface="Arial Bold"/>
                        </a:rPr>
                        <a:t>end war</a:t>
                      </a:r>
                      <a:r>
                        <a:rPr b="0" lang="en-US" sz="1300" spc="-1" strike="noStrike">
                          <a:solidFill>
                            <a:srgbClr val="000000"/>
                          </a:solidFill>
                          <a:latin typeface="Arial"/>
                          <a:ea typeface="Arial"/>
                        </a:rPr>
                        <a:t> by making a</a:t>
                      </a:r>
                      <a:r>
                        <a:rPr b="0" lang="en-US" sz="1300" spc="-1" strike="noStrike">
                          <a:solidFill>
                            <a:srgbClr val="000000"/>
                          </a:solidFill>
                          <a:latin typeface="Arial Bold"/>
                          <a:ea typeface="Arial Bold"/>
                        </a:rPr>
                        <a:t> fair peace</a:t>
                      </a:r>
                      <a:r>
                        <a:rPr b="0" lang="en-US" sz="1300" spc="-1" strike="noStrike">
                          <a:solidFill>
                            <a:srgbClr val="000000"/>
                          </a:solidFill>
                          <a:latin typeface="Arial"/>
                          <a:ea typeface="Arial"/>
                        </a:rPr>
                        <a:t>.</a:t>
                      </a:r>
                      <a:endParaRPr b="0" lang="en-US" sz="13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old"/>
                          <a:ea typeface="Arial Bold"/>
                        </a:rPr>
                        <a:t>He said that he wanted disarmament, and a League of Nations (where countries could talk out their problems, without war).</a:t>
                      </a:r>
                      <a:endParaRPr b="0" lang="en-US" sz="13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old"/>
                          <a:ea typeface="Arial Bold"/>
                        </a:rPr>
                        <a:t>He also promised self-determination for the peoples of Eastern Europe.</a:t>
                      </a:r>
                      <a:endParaRPr b="0" lang="en-US" sz="13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r>
              <a:tr h="2872440">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We want a peace which will be just, but not vindictive...    Above all, we want to protect the future against a repetition of the horrors of this war. </a:t>
                      </a: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Lloyd George speaking to Parliament (1919) before he went off to the Conference</a:t>
                      </a: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The Germans, if this government is elected, are going to pay every penny; they are going to be squeezed, as a lemon is squeezed, until the pips squeak</a:t>
                      </a: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Sir Eric Geddes was Minister of Munitions in Britain, Controller of the Navy and First Lord of the Admiralty</a:t>
                      </a: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old"/>
                          <a:ea typeface="Arial Bold"/>
                        </a:rPr>
                        <a:t>America is far away, protected by the ocean.  Not even Napoleon himself could touch England.  You are both sheltered; we are not.</a:t>
                      </a:r>
                      <a:endParaRPr b="0" lang="en-US" sz="1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old"/>
                          <a:ea typeface="Arial Bold"/>
                        </a:rPr>
                        <a:t>Georges Clemenceau, debating with Wilson and Lloyd George on 27 March 1919.</a:t>
                      </a:r>
                      <a:endParaRPr b="0" lang="en-US" sz="1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old"/>
                          <a:ea typeface="Arial Bold"/>
                        </a:rPr>
                        <a:t>'There are 20 million Germans too many!'</a:t>
                      </a:r>
                      <a:endParaRPr b="0" lang="en-US" sz="1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old"/>
                          <a:ea typeface="Arial Bold"/>
                        </a:rPr>
                        <a:t>Georges Clemenceau</a:t>
                      </a:r>
                      <a:endParaRPr b="0" lang="en-US" sz="1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old"/>
                          <a:ea typeface="Arial Bold"/>
                        </a:rPr>
                        <a:t>What we demand in this war, therefore, is nothing peculiar to ourselves.  It is that the world be made fit and safe to live in; and particularly that it be made safe for every peace-loving nation which, like our own, wishes to live its own life, determine its own institutions, be assured of justice and fair dealing by the other peoples of the world as against force and selfish aggression.</a:t>
                      </a:r>
                      <a:endParaRPr b="0" lang="en-US" sz="1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old"/>
                          <a:ea typeface="Arial Bold"/>
                        </a:rPr>
                        <a:t>Woodrow Wilson, speaking to Congress on 8, January 1918</a:t>
                      </a:r>
                      <a:endParaRPr b="0" lang="en-US" sz="1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